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03E-59FF-4F15-8B16-6F1A88AB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3DF-C7FE-463B-8E19-F911DEB4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E2A-F002-4B52-8490-AEC99F12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0F9-92BC-4C74-9930-194A416C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9E4-3867-4476-8523-7D0F4C0B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C67-57A9-49C9-9891-E65F850B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1DF-5097-46AB-8CB0-FA9CB26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120-7897-4A72-AE70-E9827CA5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B7D-9F8D-4B74-83D1-88E6CDB3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351D-497F-4E60-A405-670840F2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49C2-8AFD-4734-AD53-B4A2C03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6A1-61B9-47A9-9EC3-43400C96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C60F-F236-4B58-91AA-86188CD94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holidaysinmalaysia.org/wp-content/uploads/2009/03/f_03dayang.jpg&amp;imgrefurl=http://holidaysinmalaysia.org/malaysia-holidays-news/the-mysterious-holidays-places-in-malaysia/&amp;usg=__5_UQMgH3e9Df6MoL6Dh_TRrRDSw=&amp;h=296&amp;w=400&amp;sz=55&amp;hl=en&amp;start=1&amp;um=1&amp;tbnid=yM6ZIAPgYowxgM:&amp;tbnh=92&amp;tbnw=124&amp;prev=/images%3Fq%3Dplaces%2Bin%2Bmalaysia%26hl%3Den%26safe%3Dactive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au/imgres?imgurl=http://www.cuti.com.my/Sub/Kedah/Langkawi/langkawi_island.jpg&amp;imgrefurl=http://www.indusladies.com/forums/indians-in-malaysia/3194-tourist-places-in-malaysia.html&amp;usg=__LDCaYPNeOd-9fY2LzZhjACxLfj4=&amp;h=314&amp;w=388&amp;sz=36&amp;hl=en&amp;start=31&amp;um=1&amp;tbnid=39Kmu5Kt47wJeM:&amp;tbnh=100&amp;tbnw=123&amp;prev=/images%3Fq%3Dplaces%2Bin%2Bmalaysia%26ndsp%3D20%26hl%3Den%26safe%3Dactive%26sa%3DN%26start%3D20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.au/imgres?imgurl=http://farm2.static.flickr.com/1269/540173688_e54f593b6d_o.jpg&amp;imgrefurl=http://sudoku.com.au/UserPage.aspx%3FGo%3DE22-7-1966%26UID%3D10079&amp;usg=__IYSMiGu_Mv_NAploHDn-tIjt8Tg=&amp;h=348&amp;w=320&amp;sz=36&amp;hl=en&amp;start=32&amp;um=1&amp;tbnid=aQA0ygUi-7KiWM:&amp;tbnh=120&amp;tbnw=110&amp;prev=/images%3Fq%3Dplaces%2Bin%2Bmalaysia%26ndsp%3D20%26hl%3Den%26safe%3Dactive%26sa%3DN%26start%3D20%26um%3D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.au/imgres?imgurl=http://asianimages.files.wordpress.com/2007/11/cacti2.jpg&amp;imgrefurl=http://asianimages.wordpress.com/2007/11/&amp;usg=__1jMLgGcvIGpShLfPGlMHNbijzWU=&amp;h=269&amp;w=359&amp;sz=52&amp;hl=en&amp;start=56&amp;um=1&amp;tbnid=g1BiJQku6DgBYM:&amp;tbnh=91&amp;tbnw=121&amp;prev=/images%3Fq%3Dplaces%2Bin%2Bmalaysia%26ndsp%3D20%26hl%3Den%26safe%3Dactive%26sa%3DN%26start%3D40%26um%3D1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images.google.com.au/imgres?imgurl=http://bp3.blogger.com/_SdCgNBd85Po/SFZDpCrv6aI/AAAAAAAAAxo/RdBoVPc-OIk/s400/langkawi.jpg&amp;imgrefurl=http://travelnikna.blogspot.com/&amp;usg=__BPsPkXWbbdRihDFjBvvuQVRCSG8=&amp;h=267&amp;w=400&amp;sz=23&amp;hl=en&amp;start=65&amp;um=1&amp;tbnid=-U99tOP62te81M:&amp;tbnh=83&amp;tbnw=124&amp;prev=/images%3Fq%3Dplaces%2Bin%2Bmalaysia%26ndsp%3D20%26hl%3Den%26safe%3Dactive%26sa%3DN%26start%3D60%26um%3D1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images.google.com.au/imgres?imgurl=http://bp3.blogger.com/_SdCgNBd85Po/SHauf1UIkaI/AAAAAAAAAzA/A9q1Sj2lDB0/s400/cm1.jpg&amp;imgrefurl=http://travelnikna.blogspot.com/&amp;usg=__7qZbS8TZ2JaITD85jLngencs_6k=&amp;h=300&amp;w=400&amp;sz=23&amp;hl=en&amp;start=75&amp;um=1&amp;tbnid=u4YmeQDrnNEAxM:&amp;tbnh=93&amp;tbnw=124&amp;prev=/images%3Fq%3Dplaces%2Bin%2Bmalaysia%26ndsp%3D20%26hl%3Den%26safe%3Dactive%26sa%3DN%26start%3D60%26um%3D1" TargetMode="External"/><Relationship Id="rId12" Type="http://schemas.openxmlformats.org/officeDocument/2006/relationships/image" Target="../media/image6.jpeg"/><Relationship Id="rId13" Type="http://schemas.openxmlformats.org/officeDocument/2006/relationships/hyperlink" Target="http://images.google.com.au/imgres?imgurl=http://globalcitizens.siiaonline.org/files/malaysia%2520-%2520Petronas%2520Towers.jpg&amp;imgrefurl=http://globalcitizens.siiaonline.org/%3Fq%3Dblog/malaysia-through-kuala-lumpur&amp;usg=__WwiFB7lh2itb_4Mrhw1i369DUGQ=&amp;h=359&amp;w=439&amp;sz=54&amp;hl=en&amp;start=17&amp;um=1&amp;tbnid=lrPhUQBknrHoNM:&amp;tbnh=104&amp;tbnw=127&amp;prev=/images%3Fq%3Dmalaysia%26hl%3Den%26safe%3Dactive%26sa%3DN%26um%3D1" TargetMode="External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hmlmulticultural.files.wordpress.com/2009/03/malaysia-flag.jpg&amp;imgrefurl=http://hmlmulticultural.wordpress.com/2009/03/24/malaysia/&amp;usg=__Ar_g5tuf3AngPAyY1HEQXLy9nG0=&amp;h=334&amp;w=500&amp;sz=32&amp;hl=en&amp;start=2&amp;um=1&amp;tbnid=wAktgjU37kw38M:&amp;tbnh=87&amp;tbnw=130&amp;prev=/images%3Fq%3DMalaysia%2527s%2Bflag%26hl%3Den%26safe%3Dactive%26sa%3DX%26um%3D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ages.google.com.au/imgres?imgurl=http://image63.webshots.com/63/8/30/65/444383065IIboby_fs.jpg&amp;imgrefurl=http://travel.webshots.com/photo/1444383065077629816IIboby&amp;usg=__fxX6VsGH7qK94ySCzUQRbHJHmM0=&amp;h=1212&amp;w=1797&amp;sz=369&amp;hl=en&amp;start=39&amp;tbnid=iGomGJJhS292bM:&amp;tbnh=101&amp;tbnw=150&amp;prev=/images%3Fq%3Dtransport%2Bin%2Bmalaysia%26gbv%3D2%26ndsp%3D21%26hl%3Den%26safe%3Dactive%26sa%3DN%26start%3D2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2565360"/>
            <a:ext cx="914400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ahootz Fatty"/>
              </a:rPr>
              <a:t>malay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ahootz Fatty"/>
              <a:ea typeface="Kahootz Fatty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ist attr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95640" y="1052640"/>
            <a:ext cx="2016000" cy="1639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140360" y="1125360"/>
            <a:ext cx="1584000" cy="1582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24360" y="1125360"/>
            <a:ext cx="1872000" cy="1551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637000"/>
            <a:ext cx="2087640" cy="139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124000" y="256536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780000" y="2708280"/>
            <a:ext cx="1541160" cy="126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pulation in Malaysia is 25,71,8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rea in Malaysia is 329,750 sq k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cation is Southeastern Asia, peninsula bordering Thailand and northern one-third of the island of Borneo, bordering Indonesia, Brunei, and the South China Sea, south of Vietn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laysia is 1 of the Commonwealth countrie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76720" y="476280"/>
            <a:ext cx="2847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bout Malaysi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lay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4525920" cy="379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1258920" y="26028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laysia’s coat of arms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496360" cy="6165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050920" y="549360"/>
            <a:ext cx="42260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p of Malays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594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ahootz Fire"/>
              </a:rPr>
              <a:t>Transport in Malaysia is: Cars, trains and bo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365720"/>
            <a:ext cx="1763640" cy="1187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916360" y="260280"/>
            <a:ext cx="29811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Kahootz Fire"/>
              </a:rPr>
              <a:t>Transpor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Kahootz Fire"/>
              <a:ea typeface="Kahootz Fire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 In Malay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ports in Malaysia are Basketbal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cer , Gridiron, B.M.X and ho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360" y="3645000"/>
            <a:ext cx="1368720" cy="912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24680" y="3294000"/>
            <a:ext cx="32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00:02:27Z</dcterms:created>
  <dc:creator>Admin</dc:creator>
  <dc:description/>
  <dc:language>en-US</dc:language>
  <cp:lastModifiedBy>Admin</cp:lastModifiedBy>
  <dcterms:modified xsi:type="dcterms:W3CDTF">2009-05-28T23:56:18Z</dcterms:modified>
  <cp:revision>7</cp:revision>
  <dc:subject/>
  <dc:title> </dc:title>
</cp:coreProperties>
</file>